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F408-1F85-4B37-84AA-472158BC84A1}" type="datetime">
              <a:rPr b="0" lang="en-GB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FD7D-63FB-454C-AD2D-F4A0FCB2CD8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2A3C-C3E0-4834-9C7C-83C473E753C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A5C8-A957-4197-B4B5-BD41FEEDA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C99C-F4D0-4FC6-891B-71DC7C2E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64E6-61DC-4D49-88E4-9DB13F42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0714-E091-4BE1-8446-FFAC5EBF9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1278-CD6E-4609-BFBE-5F63693EE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30E7-18BC-47DF-A4D1-BA716503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3BD5-BF72-4C52-87B3-CF154445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A764-2D0A-4B80-B1E0-994DA7D4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9747-0635-4A18-834F-8BDBDEA3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8C0A-F3F0-4126-AF96-CFEB33AD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A99B-13A2-4477-AECC-77B352A4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ED71-6280-4D1E-9BBA-76FA9A1D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8475-1E7A-4081-A65D-22C0A01B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9B3F-B7EA-4EF2-9DA6-410B3855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681C-0924-4B05-A605-CCC2A4DC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065A-98A0-4B86-8107-E32EA4776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2145-B85A-4D7D-8244-CAD455771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45B6C-89A5-43E3-BB4F-B83749D7E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3B916-7C67-45A8-AA7C-50C5A42E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716B4-029C-4E31-8B8E-1B2DFAB5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EC053-BDE1-49D3-A3C4-3469BF6C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77580-F7D1-4D0C-9C4C-EE15585F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2740-C323-49D4-815F-9E73B4B6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1FA3B-95C1-4164-87C4-E562DEFD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340D4-F305-417D-A3E4-847E97C7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1AD4E-A583-4D75-9669-678164F6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C1EB1-A0EA-45A0-B863-151E7BD7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02F45-8F1C-41EF-9192-093D675A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73405-01AF-48B7-94E2-8DC23D3AC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A588F-AE98-492C-907B-CA9849D9E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C39B2-A78A-482B-A20D-93D7ECD65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3447B-2FA1-4B13-A292-E44E274B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AA0AD-7BBD-4667-829C-461924AA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38DF-C14D-47DF-B542-38915371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7DA18-C46B-4CE2-9534-ADA1A2EB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DFE42-D00A-4132-8141-4FD32FD9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087CE-DE7B-4695-AE96-135A910C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05E4A-BB31-45A6-B994-DDE00D01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050AC-5202-4607-BF32-98F86CC3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5024B-3250-4907-88AD-CE589898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46C84-24BA-4206-B10D-1A93670A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D1E23-B7BB-4400-B945-530FC0153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E4095-D775-4927-9215-1CDB33A4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4299-8DC3-4E96-B7E1-98B3AB14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1798-33C8-47D7-AD0A-1CBB4D00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1522-25A7-4FC7-8322-5157E6FD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F467-F42C-4CF0-84F9-9ADB7538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15F3-1D59-47D5-B88F-386A89CD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FCA8-BC92-4CAF-9E95-BD6147D717C2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54CD-13D7-4358-A3F8-4A147E4CA64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DCDF-7143-479C-916E-C10D866D04E2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DB51-57C8-47D9-BA88-260CC4899D2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8A0C-72D6-4691-9603-A0FF4BCEA267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0F12-1F71-4FD7-A0CA-CCFF49B3555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D7B1-34FD-46CB-BDB3-FD0151D30638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73AD-59EC-41D1-959A-BB258A51BE5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ewsobserver.com/weather/drought/story/1016009.html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88320" cy="19576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J Developmen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TextBox 3" descr=""/>
          <p:cNvPicPr/>
          <p:nvPr/>
        </p:nvPicPr>
        <p:blipFill>
          <a:blip r:embed="rId3"/>
          <a:stretch/>
        </p:blipFill>
        <p:spPr>
          <a:xfrm>
            <a:off x="2664000" y="4413240"/>
            <a:ext cx="374328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How to calculate Surface Are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urface area of an open cylinder is calculated by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2776680" indent="-3556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(2πr × h) + (π × 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76680" indent="-3556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n r = radius of the cylinder’s base circ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76680" indent="-3556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 = the height of the cylind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4" name="Magnetic Disk 6"/>
          <p:cNvGrpSpPr/>
          <p:nvPr/>
        </p:nvGrpSpPr>
        <p:grpSpPr>
          <a:xfrm>
            <a:off x="615960" y="2554200"/>
            <a:ext cx="2048040" cy="3956040"/>
            <a:chOff x="615960" y="2554200"/>
            <a:chExt cx="2048040" cy="3956040"/>
          </a:xfrm>
        </p:grpSpPr>
        <p:pic>
          <p:nvPicPr>
            <p:cNvPr id="225" name="Magnetic Disk 6" descr=""/>
            <p:cNvPicPr/>
            <p:nvPr/>
          </p:nvPicPr>
          <p:blipFill>
            <a:blip r:embed="rId2"/>
            <a:stretch/>
          </p:blipFill>
          <p:spPr>
            <a:xfrm>
              <a:off x="615960" y="2554200"/>
              <a:ext cx="2048040" cy="39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685800" y="3860640"/>
              <a:ext cx="190512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7" name="Straight Arrow Connector 8"/>
          <p:cNvCxnSpPr/>
          <p:nvPr/>
        </p:nvCxnSpPr>
        <p:spPr>
          <a:xfrm>
            <a:off x="1600200" y="3123720"/>
            <a:ext cx="991440" cy="2520"/>
          </a:xfrm>
          <a:prstGeom prst="straightConnector1">
            <a:avLst/>
          </a:prstGeom>
          <a:ln w="25560">
            <a:solidFill>
              <a:srgbClr val="0f6fc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28" name="Straight Arrow Connector 10"/>
          <p:cNvCxnSpPr/>
          <p:nvPr/>
        </p:nvCxnSpPr>
        <p:spPr>
          <a:xfrm>
            <a:off x="1635480" y="3862080"/>
            <a:ext cx="3960" cy="2540520"/>
          </a:xfrm>
          <a:prstGeom prst="straightConnector1">
            <a:avLst/>
          </a:prstGeom>
          <a:ln w="25560">
            <a:solidFill>
              <a:srgbClr val="0f6fc6"/>
            </a:solidFill>
            <a:miter/>
            <a:headEnd len="med" type="arrow" w="med"/>
            <a:tailEnd len="med" type="arrow" w="med"/>
          </a:ln>
        </p:spPr>
      </p:cxnSp>
      <p:sp>
        <p:nvSpPr>
          <p:cNvPr id="229" name="TextBox 11"/>
          <p:cNvSpPr/>
          <p:nvPr/>
        </p:nvSpPr>
        <p:spPr>
          <a:xfrm>
            <a:off x="1828800" y="2819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2"/>
          <p:cNvSpPr/>
          <p:nvPr/>
        </p:nvSpPr>
        <p:spPr>
          <a:xfrm>
            <a:off x="1066680" y="48006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How to calculate volu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volume of a cylinder that has a radius of 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260496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π × 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× 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60496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nce a cylinder is a prism, the volume =  base area × he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33" name="Magnetic Disk 3"/>
          <p:cNvGrpSpPr/>
          <p:nvPr/>
        </p:nvGrpSpPr>
        <p:grpSpPr>
          <a:xfrm>
            <a:off x="615960" y="2554200"/>
            <a:ext cx="2048040" cy="3956040"/>
            <a:chOff x="615960" y="2554200"/>
            <a:chExt cx="2048040" cy="3956040"/>
          </a:xfrm>
        </p:grpSpPr>
        <p:pic>
          <p:nvPicPr>
            <p:cNvPr id="234" name="Magnetic Disk 3" descr=""/>
            <p:cNvPicPr/>
            <p:nvPr/>
          </p:nvPicPr>
          <p:blipFill>
            <a:blip r:embed="rId2"/>
            <a:stretch/>
          </p:blipFill>
          <p:spPr>
            <a:xfrm>
              <a:off x="615960" y="2554200"/>
              <a:ext cx="2048040" cy="39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685800" y="3860640"/>
              <a:ext cx="190512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36" name="Straight Arrow Connector 4"/>
          <p:cNvCxnSpPr/>
          <p:nvPr/>
        </p:nvCxnSpPr>
        <p:spPr>
          <a:xfrm>
            <a:off x="1600200" y="3123720"/>
            <a:ext cx="991440" cy="2520"/>
          </a:xfrm>
          <a:prstGeom prst="straightConnector1">
            <a:avLst/>
          </a:prstGeom>
          <a:ln w="25560">
            <a:solidFill>
              <a:srgbClr val="0f6fc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7" name="Straight Arrow Connector 5"/>
          <p:cNvCxnSpPr/>
          <p:nvPr/>
        </p:nvCxnSpPr>
        <p:spPr>
          <a:xfrm>
            <a:off x="1635480" y="3862080"/>
            <a:ext cx="3960" cy="2540520"/>
          </a:xfrm>
          <a:prstGeom prst="straightConnector1">
            <a:avLst/>
          </a:prstGeom>
          <a:ln w="25560">
            <a:solidFill>
              <a:srgbClr val="0f6fc6"/>
            </a:solidFill>
            <a:miter/>
            <a:headEnd len="med" type="arrow" w="med"/>
            <a:tailEnd len="med" type="arrow" w="med"/>
          </a:ln>
        </p:spPr>
      </p:cxnSp>
      <p:sp>
        <p:nvSpPr>
          <p:cNvPr id="238" name="TextBox 11"/>
          <p:cNvSpPr/>
          <p:nvPr/>
        </p:nvSpPr>
        <p:spPr>
          <a:xfrm>
            <a:off x="1828800" y="2819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2"/>
          <p:cNvSpPr/>
          <p:nvPr/>
        </p:nvSpPr>
        <p:spPr>
          <a:xfrm>
            <a:off x="1066680" y="48006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Calcul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otal amount of water needed for entire villag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265L × 4 people × 50 families × 14 days = 742 000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Volume of storage tank: 742 000L of water = 742 m</a:t>
            </a:r>
            <a:r>
              <a:rPr b="0" lang="en-GB" sz="26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is estimation has more water capacity than is necessary because there is an extra 2 litres for every pers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Best Choice for Water Tan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1752480"/>
          <a:ext cx="8305920" cy="4645080"/>
        </p:xfrm>
        <a:graphic>
          <a:graphicData uri="http://schemas.openxmlformats.org/drawingml/2006/table">
            <a:tbl>
              <a:tblPr/>
              <a:tblGrid>
                <a:gridCol w="838080"/>
                <a:gridCol w="1067040"/>
                <a:gridCol w="758880"/>
                <a:gridCol w="993600"/>
                <a:gridCol w="914400"/>
                <a:gridCol w="1219320"/>
                <a:gridCol w="1365120"/>
                <a:gridCol w="1149480"/>
              </a:tblGrid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adius (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ase Area (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nstantia"/>
                          <a:ea typeface="Verdana"/>
                        </a:rPr>
                        <a:t>m</a:t>
                      </a:r>
                      <a:r>
                        <a:rPr b="0" lang="en-GB" sz="1200" spc="-1" strike="noStrike" baseline="30000">
                          <a:solidFill>
                            <a:srgbClr val="000000"/>
                          </a:solidFill>
                          <a:latin typeface="Constantia"/>
                          <a:ea typeface="Verdana"/>
                        </a:rPr>
                        <a:t>2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nstantia"/>
                          <a:ea typeface="Verdana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eight (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 (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nstantia"/>
                          <a:ea typeface="Verdana"/>
                        </a:rPr>
                        <a:t>m</a:t>
                      </a:r>
                      <a:r>
                        <a:rPr b="0" lang="en-GB" sz="1200" spc="-1" strike="noStrike" baseline="30000">
                          <a:solidFill>
                            <a:srgbClr val="000000"/>
                          </a:solidFill>
                          <a:latin typeface="Constantia"/>
                          <a:ea typeface="Verdana"/>
                        </a:rPr>
                        <a:t>2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nstantia"/>
                          <a:ea typeface="Verdana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  <a:ea typeface="Verdana"/>
                        </a:rPr>
                        <a:t>TSA (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nstantia"/>
                          <a:ea typeface="Verdana"/>
                        </a:rPr>
                        <a:t>m</a:t>
                      </a:r>
                      <a:r>
                        <a:rPr b="0" lang="en-GB" sz="1200" spc="-1" strike="noStrike" baseline="30000">
                          <a:solidFill>
                            <a:srgbClr val="000000"/>
                          </a:solidFill>
                          <a:latin typeface="Constantia"/>
                          <a:ea typeface="Verdana"/>
                        </a:rPr>
                        <a:t>2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nstantia"/>
                          <a:ea typeface="Verdana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st of Metal ($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st of Concrete ($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tal Cost ($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8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1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5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1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6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3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8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4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3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2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65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9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1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14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5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77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31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8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47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0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4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6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91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Justific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5" name="Content Placeholder 3" descr="watertank.jpg"/>
          <p:cNvPicPr/>
          <p:nvPr/>
        </p:nvPicPr>
        <p:blipFill>
          <a:blip r:embed="rId2"/>
          <a:srcRect l="-5907" t="0" r="-5907" b="0"/>
          <a:stretch/>
        </p:blipFill>
        <p:spPr>
          <a:xfrm>
            <a:off x="457200" y="1920960"/>
            <a:ext cx="4038480" cy="44337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ith a radius of 3m, the height of the cylinder would have to be 28m to be able to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commodate 742 000L of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ith a radius of  4m, the stability of the structure is increased and the height of the water tank is  lowered to 15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Justific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5800" y="2209320"/>
            <a:ext cx="7770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Viability vs. Co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 it really that good to have a 26m structur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 it </a:t>
            </a:r>
            <a:r>
              <a:rPr b="0" i="1" lang="en-GB" sz="2400" spc="-1" strike="noStrike">
                <a:solidFill>
                  <a:srgbClr val="000000"/>
                </a:solidFill>
                <a:latin typeface="Constantia"/>
              </a:rPr>
              <a:t>possibl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to have a 26m structure that will hold its weight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mount of water used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eway for water use of people in case they need more wat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Level of Accuracy (nearest whole number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sier to see the difference between figu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Our Storage Tan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s a capacity of 742 000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Is in the shape of a cylind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imensi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Radius: 4 met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Height: 15 met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Picture 7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31240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Title 5" descr=""/>
          <p:cNvPicPr/>
          <p:nvPr/>
        </p:nvPicPr>
        <p:blipFill>
          <a:blip r:embed="rId2"/>
          <a:stretch/>
        </p:blipFill>
        <p:spPr>
          <a:xfrm>
            <a:off x="476280" y="1311120"/>
            <a:ext cx="7832520" cy="149256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tart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at kind of grain are we storing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ow much grain are we putting in storag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hat kind of shape is the best for storing the grai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Answer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at kind of grain are we storing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rain can be used to make many types of foo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ice, corn, oats, ry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re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 our purposes, we’ll pretend that we’re storing ri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Our Proces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Resear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onsolid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nsw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Answer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ow much grain are we putting in storag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he space that the cooked rice takes up is 3-4 times the space that uncooked rice takes up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ach person eats about 300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cooked rice per mea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00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cooked rice ≈ 100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uncooked ri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Answer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hat kind of shape is best for storing the grai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Real life examp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ylinder has the largest area for a fixed perimet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ylinders are also used for sil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Examples of Grain Storag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3" name="Content Placeholder 10" descr="silos and lorry.JPG"/>
          <p:cNvPicPr/>
          <p:nvPr/>
        </p:nvPicPr>
        <p:blipFill>
          <a:blip r:embed="rId2"/>
          <a:srcRect l="0" t="-17698" r="0" b="-17698"/>
          <a:stretch/>
        </p:blipFill>
        <p:spPr>
          <a:xfrm>
            <a:off x="457200" y="1920960"/>
            <a:ext cx="4038480" cy="4433760"/>
          </a:xfrm>
          <a:prstGeom prst="rect">
            <a:avLst/>
          </a:prstGeom>
          <a:ln w="0">
            <a:noFill/>
          </a:ln>
        </p:spPr>
      </p:pic>
      <p:pic>
        <p:nvPicPr>
          <p:cNvPr id="264" name="Content Placeholder 11" descr="hog grain storage.jpg"/>
          <p:cNvPicPr/>
          <p:nvPr/>
        </p:nvPicPr>
        <p:blipFill>
          <a:blip r:embed="rId3"/>
          <a:srcRect l="0" t="-24477" r="0" b="-24477"/>
          <a:stretch/>
        </p:blipFill>
        <p:spPr>
          <a:xfrm>
            <a:off x="4648320" y="1920960"/>
            <a:ext cx="4038480" cy="4433760"/>
          </a:xfrm>
          <a:prstGeom prst="rect">
            <a:avLst/>
          </a:prstGeom>
          <a:ln w="0">
            <a:noFill/>
          </a:ln>
        </p:spPr>
      </p:pic>
      <p:sp>
        <p:nvSpPr>
          <p:cNvPr id="265" name="TextBox 8"/>
          <p:cNvSpPr/>
          <p:nvPr/>
        </p:nvSpPr>
        <p:spPr>
          <a:xfrm>
            <a:off x="685800" y="57913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www.dengie-crops.com/media/silos%20and%20lorry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9"/>
          <p:cNvSpPr/>
          <p:nvPr/>
        </p:nvSpPr>
        <p:spPr>
          <a:xfrm>
            <a:off x="4724280" y="56293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www.mawaterquality.org/gallery/photos/hog%20grain%20storage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Calcul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100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uncooked rice × 3 meals × 4 people × 50 families × 14 days = 840 000 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of uncooked ri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840 000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= 0.84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ed has to have a volume of 0.84m</a:t>
            </a:r>
            <a:r>
              <a:rPr b="0" lang="en-GB" sz="26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round to 1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Best Choice for Grain Storag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457200" y="1935000"/>
          <a:ext cx="8229600" cy="4465800"/>
        </p:xfrm>
        <a:graphic>
          <a:graphicData uri="http://schemas.openxmlformats.org/drawingml/2006/table">
            <a:tbl>
              <a:tblPr/>
              <a:tblGrid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  <a:gridCol w="822240"/>
              </a:tblGrid>
              <a:tr h="3924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adi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ase 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e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ircumfer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 of He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st of Me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ncr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ncrete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tal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4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</a:tr>
              <a:tr h="3920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7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</a:tr>
              <a:tr h="3920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7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0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8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792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6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7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79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Justific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609840" y="-360"/>
            <a:ext cx="15238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560" y="5181480"/>
            <a:ext cx="3429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ith radius of 0.2 the height have to be 8 to hold 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0.84m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onstantia"/>
              </a:rPr>
              <a:t>3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2819160" cy="33526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4267080" y="1676520"/>
            <a:ext cx="3667320" cy="322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6" name=""/>
          <p:cNvGraphicFramePr/>
          <p:nvPr/>
        </p:nvGraphicFramePr>
        <p:xfrm>
          <a:off x="4114800" y="5181480"/>
          <a:ext cx="4267080" cy="1371600"/>
        </p:xfrm>
        <a:graphic>
          <a:graphicData uri="http://schemas.openxmlformats.org/drawingml/2006/table">
            <a:tbl>
              <a:tblPr/>
              <a:tblGrid>
                <a:gridCol w="42670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 have a structure with stability have to be radius of 0.3 and height of 3.5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Justific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0880" y="1980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aving a same cost stability will be bet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o having lower height with longer radius is safer to hold the weigh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It has plenty of space to put in a lot of gra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Our Grain Sil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 cylindric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s a capacity of 1m</a:t>
            </a:r>
            <a:r>
              <a:rPr b="0" lang="en-GB" sz="26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imensions: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os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f metal sheet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97.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f concrete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44.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How many people in a family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61 children born/woman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(CIA World Factboo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ound down to 2 childr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dd 2 par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quals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people in a family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How did we get our numbers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Base area: π × r</a:t>
            </a:r>
            <a:r>
              <a:rPr b="0" lang="en-GB" sz="26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eight: Volume needed (m</a:t>
            </a:r>
            <a:r>
              <a:rPr b="0" lang="en-GB" sz="26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) ÷ base are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ost of metal: $ (14 × base area × heigh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Volume of concrete: (radius + 0.3m)</a:t>
            </a:r>
            <a:r>
              <a:rPr b="0" lang="en-GB" sz="26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× 0.2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ost of concrete: $ (640 × volume of concret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otal cost: $ (Cost of metal + cost of concret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Title 3" descr=""/>
          <p:cNvPicPr/>
          <p:nvPr/>
        </p:nvPicPr>
        <p:blipFill>
          <a:blip r:embed="rId2"/>
          <a:stretch/>
        </p:blipFill>
        <p:spPr>
          <a:xfrm>
            <a:off x="476280" y="1311120"/>
            <a:ext cx="7832520" cy="14925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tart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ow much water does each person us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hat do we use water for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hat is the best shape to store water i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Answer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hat do we use water for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rink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th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shing (dishes, laundry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oile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ook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Answer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2286000"/>
            <a:ext cx="7770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How much water does an average person us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Internet research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www.newsobserver.com/weather/drought/story/1016009.htm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69.3 gallons per person for indoor purpos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laundry, shower, toilets, cooking, drinking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onvert into litr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1 gallon = 3.78541178 litre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69.3 gallons ≈</a:t>
            </a:r>
            <a:r>
              <a:rPr b="0" lang="en-US" sz="2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ＭＳ ゴシック"/>
              </a:rPr>
              <a:t>263 litr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  <a:ea typeface="ＭＳ ゴシック"/>
              </a:rPr>
              <a:t>Leeway: 263 ± 2 litre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swer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at is the best shape to store water i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erimeter and Circumference vs. Area (of 2-D object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ircle vs. Squa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al life examp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A cylinder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s the best shape to store water i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Content Placeholder 5" descr="{72ED8FC0-2FE1-4FAB-AAE2-484FF1A30A82}.JPG"/>
          <p:cNvPicPr/>
          <p:nvPr/>
        </p:nvPicPr>
        <p:blipFill>
          <a:blip r:embed="rId2"/>
          <a:srcRect l="-19287" t="0" r="-19287" b="0"/>
          <a:stretch/>
        </p:blipFill>
        <p:spPr>
          <a:xfrm>
            <a:off x="4648320" y="1920960"/>
            <a:ext cx="403848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3:53:48Z</dcterms:created>
  <dc:creator>Cara Leong</dc:creator>
  <dc:description/>
  <dc:language>en-US</dc:language>
  <cp:lastModifiedBy>遐想 1.0</cp:lastModifiedBy>
  <dcterms:modified xsi:type="dcterms:W3CDTF">2002-01-01T14:58:29Z</dcterms:modified>
  <cp:revision>18</cp:revision>
  <dc:subject/>
  <dc:title>Storage Facilities</dc:title>
</cp:coreProperties>
</file>